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8.jpeg" ContentType="image/jpeg"/>
  <Override PartName="/ppt/media/bomb-2.wav" ContentType="audio/x-wav"/>
  <Override PartName="/ppt/media/image24.png" ContentType="image/png"/>
  <Override PartName="/ppt/media/image11.jpeg" ContentType="image/jpeg"/>
  <Override PartName="/ppt/media/image22.png" ContentType="image/png"/>
  <Override PartName="/ppt/media/image19.jpeg" ContentType="image/jpeg"/>
  <Override PartName="/ppt/media/image42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5.jpeg" ContentType="image/jpeg"/>
  <Override PartName="/ppt/media/image25.wmf" ContentType="image/x-wmf"/>
  <Override PartName="/ppt/media/image14.png" ContentType="image/png"/>
  <Override PartName="/ppt/media/image5.png" ContentType="image/png"/>
  <Override PartName="/ppt/media/image35.png" ContentType="image/png"/>
  <Override PartName="/ppt/media/image43.jpeg" ContentType="image/jpeg"/>
  <Override PartName="/ppt/media/image7.png" ContentType="image/png"/>
  <Override PartName="/ppt/media/image30.png" ContentType="image/png"/>
  <Override PartName="/ppt/media/image37.jpeg" ContentType="image/jpeg"/>
  <Override PartName="/ppt/media/image13.png" ContentType="image/png"/>
  <Override PartName="/ppt/media/image31.png" ContentType="image/png"/>
  <Override PartName="/ppt/media/image9.png" ContentType="image/png"/>
  <Override PartName="/ppt/media/image38.jpeg" ContentType="image/jpeg"/>
  <Override PartName="/ppt/media/image40.jpeg" ContentType="image/jpeg"/>
  <Override PartName="/ppt/media/image33.jpeg" ContentType="image/jpeg"/>
  <Override PartName="/ppt/media/image44.jpeg" ContentType="image/jpeg"/>
  <Override PartName="/ppt/media/image45.png" ContentType="image/png"/>
  <Override PartName="/ppt/media/image6.jpeg" ContentType="image/jpeg"/>
  <Override PartName="/ppt/media/image27.jpeg" ContentType="image/jpeg"/>
  <Override PartName="/ppt/media/explode.wav" ContentType="audio/x-wav"/>
  <Override PartName="/ppt/media/image20.jpeg" ContentType="image/jpeg"/>
  <Override PartName="/ppt/media/image41.png" ContentType="image/png"/>
  <Override PartName="/ppt/media/image39.jpeg" ContentType="image/jpeg"/>
  <Override PartName="/ppt/media/image8.png" ContentType="image/png"/>
  <Override PartName="/ppt/media/image1.jpeg" ContentType="image/jpeg"/>
  <Override PartName="/ppt/media/image10.png" ContentType="image/png"/>
  <Override PartName="/ppt/media/nautical023%5B1%5D.wav" ContentType="audio/x-wav"/>
  <Override PartName="/ppt/media/image34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36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A760-EA2C-4F4F-B101-6801EA95B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9C61-8430-415E-89C5-D18CCCFF2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51F5-C141-4C56-8FDE-0F6EAF340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753A-934B-4E9F-8E0E-3F4F37188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9124-EDA9-4DFC-9D57-6499E8F10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22F7-465D-4585-9295-3F9DEEE0B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00A7-CA74-45AB-964C-49CAB4743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BE70-1DF5-4E27-8F27-05FBD8C41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19F2-BFD0-4CBF-982A-4C70A8DE9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1B66-E18F-4409-86AE-3A6052F6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1D0A-3AF3-4ABE-A776-2A31FFC1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C329-F066-4852-8422-19BDC251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B3643-FE03-444B-B55A-8E66978DB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audio" Target="../media/bomb-2.wav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audio" Target="../media/nautical023%5B1%5D.wav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18.jpeg"/><Relationship Id="rId6" Type="http://schemas.openxmlformats.org/officeDocument/2006/relationships/image" Target="../media/image18.jpeg"/><Relationship Id="rId7" Type="http://schemas.openxmlformats.org/officeDocument/2006/relationships/image" Target="../media/image18.jpeg"/><Relationship Id="rId8" Type="http://schemas.openxmlformats.org/officeDocument/2006/relationships/image" Target="../media/image18.jpeg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rld War I - Cau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71600" y="212760"/>
            <a:ext cx="7620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Comic Sans MS"/>
              </a:rPr>
              <a:t>The Assassination:  Saraje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2438280" y="1143000"/>
            <a:ext cx="5639040" cy="538812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71600" y="212760"/>
            <a:ext cx="762012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996600"/>
                </a:solidFill>
                <a:latin typeface="Comic Sans MS"/>
              </a:rPr>
              <a:t>    </a:t>
            </a:r>
            <a:r>
              <a:rPr b="1" lang="en-US" sz="4600" spc="-1" strike="noStrike">
                <a:solidFill>
                  <a:srgbClr val="996600"/>
                </a:solidFill>
                <a:latin typeface="Comic Sans MS"/>
              </a:rPr>
              <a:t>The Assassi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rcRect l="4384" t="4107" r="2444" b="10961"/>
          <a:stretch/>
        </p:blipFill>
        <p:spPr>
          <a:xfrm>
            <a:off x="1447920" y="1584360"/>
            <a:ext cx="4114800" cy="329256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  <p:pic>
        <p:nvPicPr>
          <p:cNvPr id="115" name="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5230800" y="2606760"/>
            <a:ext cx="3373560" cy="335124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  <p:sp>
        <p:nvSpPr>
          <p:cNvPr id="116" name=""/>
          <p:cNvSpPr/>
          <p:nvPr/>
        </p:nvSpPr>
        <p:spPr>
          <a:xfrm flipH="1" flipV="1">
            <a:off x="5028840" y="2971440"/>
            <a:ext cx="1219320" cy="1143000"/>
          </a:xfrm>
          <a:prstGeom prst="line">
            <a:avLst/>
          </a:prstGeom>
          <a:ln cap="sq" w="38160">
            <a:solidFill>
              <a:srgbClr val="e61f0a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99000" y="1143000"/>
            <a:ext cx="2090160" cy="137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b1b53"/>
                </a:solidFill>
                <a:latin typeface="Comic Sans MS"/>
              </a:rPr>
              <a:t>Gavrilo</a:t>
            </a:r>
            <a:br>
              <a:rPr sz="4200"/>
            </a:br>
            <a:r>
              <a:rPr b="1" lang="en-US" sz="4200" spc="-1" strike="noStrike">
                <a:solidFill>
                  <a:srgbClr val="1b1b53"/>
                </a:solidFill>
                <a:latin typeface="Comic Sans MS"/>
              </a:rPr>
              <a:t>Princip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371600" y="212760"/>
            <a:ext cx="7620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Comic Sans MS"/>
              </a:rPr>
              <a:t>Who’s To Bl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600200" y="1219320"/>
            <a:ext cx="7238880" cy="506736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523880" y="447840"/>
            <a:ext cx="7315200" cy="5876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0" y="1494000"/>
            <a:ext cx="1720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m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0 M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tiv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914-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533520"/>
            <a:ext cx="914400" cy="91440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4572000"/>
            <a:ext cx="914400" cy="91440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447920" y="152280"/>
            <a:ext cx="75438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Comic Sans MS"/>
              </a:rPr>
              <a:t>A Multi-Front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1447920" y="1143000"/>
            <a:ext cx="7543800" cy="54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447920" y="76320"/>
            <a:ext cx="75438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Comic Sans MS"/>
              </a:rPr>
              <a:t>The Western Fr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>
            <a:lum contrast="6000"/>
          </a:blip>
          <a:srcRect l="1623" t="1369" r="945" b="1369"/>
          <a:stretch/>
        </p:blipFill>
        <p:spPr>
          <a:xfrm>
            <a:off x="2854440" y="914400"/>
            <a:ext cx="4765680" cy="563868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  <p:sp>
        <p:nvSpPr>
          <p:cNvPr id="128" name=""/>
          <p:cNvSpPr/>
          <p:nvPr/>
        </p:nvSpPr>
        <p:spPr>
          <a:xfrm>
            <a:off x="340920" y="1260360"/>
            <a:ext cx="21726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verall land gai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ere minimal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imited change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sition ov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 years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utral 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rrelev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71600" y="228600"/>
            <a:ext cx="76201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Comic Sans MS"/>
              </a:rPr>
              <a:t>Trench Warf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trench diagram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2185920" y="1236600"/>
            <a:ext cx="4730760" cy="464976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358920" y="1336680"/>
            <a:ext cx="1739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hysical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sycholog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pportunit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ng du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ats, L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ysen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ni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rtill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ison 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chine G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371600" y="152280"/>
            <a:ext cx="76201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Comic Sans MS"/>
              </a:rPr>
              <a:t>Trench Warf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473120" y="1295280"/>
            <a:ext cx="2793960" cy="419112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3830760" y="3187800"/>
            <a:ext cx="4856040" cy="293832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  <p:sp>
        <p:nvSpPr>
          <p:cNvPr id="135" name=""/>
          <p:cNvSpPr/>
          <p:nvPr/>
        </p:nvSpPr>
        <p:spPr>
          <a:xfrm>
            <a:off x="5486400" y="1905120"/>
            <a:ext cx="26668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333399"/>
                </a:solidFill>
                <a:latin typeface="Comic Sans MS"/>
              </a:rPr>
              <a:t>No Man’s Land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371600" y="228600"/>
            <a:ext cx="76201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Comic Sans MS"/>
              </a:rPr>
              <a:t>Verdun – February, 19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5562720"/>
            <a:ext cx="563904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ace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996600"/>
              </a:buClr>
              <a:buFont typeface="PressWriter Symbol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b1b5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1b1b53"/>
                </a:solidFill>
                <a:latin typeface="Comic Sans MS"/>
              </a:rPr>
              <a:t>German offens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996600"/>
              </a:buClr>
              <a:buFont typeface="PressWriter Symbol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b1b5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1b1b53"/>
                </a:solidFill>
                <a:latin typeface="Comic Sans MS"/>
              </a:rPr>
              <a:t>Each side had 500,000 casual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rcRect l="2669" t="1981" r="2669" b="948"/>
          <a:stretch/>
        </p:blipFill>
        <p:spPr>
          <a:xfrm>
            <a:off x="1279440" y="995400"/>
            <a:ext cx="6585120" cy="442584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371600" y="228600"/>
            <a:ext cx="76201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Comic Sans MS"/>
              </a:rPr>
              <a:t>The Somme – July, 19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05120" y="5562720"/>
            <a:ext cx="670536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ace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996600"/>
              </a:buClr>
              <a:buFont typeface="PressWriter Symbol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b1b5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1b1b53"/>
                </a:solidFill>
                <a:latin typeface="Comic Sans MS"/>
              </a:rPr>
              <a:t>60,000 British soldiers killed in one 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996600"/>
              </a:buClr>
              <a:buFont typeface="PressWriter Symbol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b1b5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1b1b53"/>
                </a:solidFill>
                <a:latin typeface="Comic Sans MS"/>
              </a:rPr>
              <a:t>Over 1,000,000 killed in 5 mont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>
            <a:lum contrast="6000"/>
          </a:blip>
          <a:srcRect l="0" t="6915" r="0" b="8487"/>
          <a:stretch/>
        </p:blipFill>
        <p:spPr>
          <a:xfrm>
            <a:off x="1198440" y="915840"/>
            <a:ext cx="6747120" cy="441036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371600" y="212760"/>
            <a:ext cx="7620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Comic Sans MS"/>
              </a:rPr>
              <a:t>1. The Alliance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85880" y="3179880"/>
            <a:ext cx="2139840" cy="1454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676520" y="4890960"/>
            <a:ext cx="1981080" cy="1320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785880" y="1600200"/>
            <a:ext cx="2139840" cy="1425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rcRect l="1617" t="0" r="1617" b="0"/>
          <a:stretch/>
        </p:blipFill>
        <p:spPr>
          <a:xfrm>
            <a:off x="6218280" y="3208320"/>
            <a:ext cx="2139840" cy="1492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6705720" y="1981080"/>
            <a:ext cx="1981080" cy="1295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rcRect l="2756" t="4132" r="2756" b="5313"/>
          <a:stretch/>
        </p:blipFill>
        <p:spPr>
          <a:xfrm>
            <a:off x="6705720" y="4952880"/>
            <a:ext cx="1981080" cy="1295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962520" y="2286000"/>
            <a:ext cx="0" cy="3657600"/>
          </a:xfrm>
          <a:prstGeom prst="line">
            <a:avLst/>
          </a:prstGeom>
          <a:ln cap="sq" w="38160">
            <a:solidFill>
              <a:srgbClr val="e61f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5943600"/>
            <a:ext cx="304920" cy="0"/>
          </a:xfrm>
          <a:prstGeom prst="line">
            <a:avLst/>
          </a:prstGeom>
          <a:ln cap="sq" w="38160">
            <a:solidFill>
              <a:srgbClr val="e61f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57600" y="2286000"/>
            <a:ext cx="304920" cy="0"/>
          </a:xfrm>
          <a:prstGeom prst="line">
            <a:avLst/>
          </a:prstGeom>
          <a:ln cap="sq" w="38160">
            <a:solidFill>
              <a:srgbClr val="e61f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4191120"/>
            <a:ext cx="304560" cy="0"/>
          </a:xfrm>
          <a:prstGeom prst="line">
            <a:avLst/>
          </a:prstGeom>
          <a:ln cap="sq" w="38160">
            <a:solidFill>
              <a:srgbClr val="e61f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00800" y="2286000"/>
            <a:ext cx="0" cy="3657600"/>
          </a:xfrm>
          <a:prstGeom prst="line">
            <a:avLst/>
          </a:prstGeom>
          <a:ln cap="sq"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6400440" y="5943600"/>
            <a:ext cx="304920" cy="0"/>
          </a:xfrm>
          <a:prstGeom prst="line">
            <a:avLst/>
          </a:prstGeom>
          <a:ln cap="sq"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400800" y="2286000"/>
            <a:ext cx="304920" cy="0"/>
          </a:xfrm>
          <a:prstGeom prst="line">
            <a:avLst/>
          </a:prstGeom>
          <a:ln cap="sq"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6095520" y="4191120"/>
            <a:ext cx="304920" cy="0"/>
          </a:xfrm>
          <a:prstGeom prst="line">
            <a:avLst/>
          </a:prstGeom>
          <a:ln cap="sq"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3124080"/>
            <a:ext cx="1600200" cy="1981440"/>
          </a:xfrm>
          <a:prstGeom prst="irregularSeal1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8100000"/>
          </a:gradFill>
          <a:ln cap="sq" w="12600">
            <a:solidFill>
              <a:srgbClr val="000000"/>
            </a:solidFill>
            <a:miter/>
          </a:ln>
          <a:effectLst>
            <a:outerShdw dist="89808" dir="4916091" blurRad="0" rotWithShape="0">
              <a:srgbClr val="99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19320" y="1219320"/>
            <a:ext cx="3124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61f0a"/>
                </a:solidFill>
                <a:uFillTx/>
                <a:latin typeface="Comic Sans MS"/>
              </a:rPr>
              <a:t>Triple Entente</a:t>
            </a:r>
            <a:r>
              <a:rPr b="0" lang="en-US" sz="2400" spc="-1" strike="noStrike">
                <a:solidFill>
                  <a:srgbClr val="e61f0a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324480" y="121932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cc00"/>
                </a:solidFill>
                <a:uFillTx/>
                <a:latin typeface="Comic Sans MS"/>
              </a:rPr>
              <a:t>Triple Alliance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77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770" fill="hold"/>
                                        <p:tgtEl>
                                          <p:spTgt spid="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" dur="77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" dur="77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500"/>
                            </p:stCondLst>
                            <p:childTnLst>
                              <p:par>
                                <p:cTn id="4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7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7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7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7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rcRect l="0" t="0" r="2123" b="0"/>
          <a:stretch/>
        </p:blipFill>
        <p:spPr>
          <a:xfrm>
            <a:off x="6172200" y="380880"/>
            <a:ext cx="2363760" cy="335304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  <p:sp>
        <p:nvSpPr>
          <p:cNvPr id="143" name=""/>
          <p:cNvSpPr/>
          <p:nvPr/>
        </p:nvSpPr>
        <p:spPr>
          <a:xfrm>
            <a:off x="1447920" y="457200"/>
            <a:ext cx="441936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Comic Sans MS"/>
              </a:rPr>
              <a:t>War Is</a:t>
            </a:r>
            <a:r>
              <a:rPr b="1" lang="en-US" sz="4400" spc="-1" strike="noStrike">
                <a:solidFill>
                  <a:srgbClr val="996600"/>
                </a:solidFill>
                <a:latin typeface="Flame"/>
              </a:rPr>
              <a:t> </a:t>
            </a:r>
            <a:r>
              <a:rPr b="1" lang="en-US" sz="4400" spc="-1" strike="noStrike">
                <a:solidFill>
                  <a:srgbClr val="e61f0a"/>
                </a:solidFill>
                <a:latin typeface="Flame"/>
              </a:rPr>
              <a:t>HELL </a:t>
            </a:r>
            <a:r>
              <a:rPr b="1" lang="en-US" sz="4400" spc="-1" strike="noStrike">
                <a:solidFill>
                  <a:srgbClr val="996600"/>
                </a:solidFill>
                <a:latin typeface="Comic Sans MS"/>
              </a:rPr>
              <a:t>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rcRect l="0" t="0" r="0" b="5451"/>
          <a:stretch/>
        </p:blipFill>
        <p:spPr>
          <a:xfrm>
            <a:off x="1676520" y="1806480"/>
            <a:ext cx="3733560" cy="314640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5334120" y="3124080"/>
            <a:ext cx="2288880" cy="335304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mb-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371600" y="212760"/>
            <a:ext cx="7620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Comic Sans MS"/>
              </a:rPr>
              <a:t>Sacrifices in W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1523880" y="1066680"/>
            <a:ext cx="4648320" cy="315432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  <p:pic>
        <p:nvPicPr>
          <p:cNvPr id="148" name="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2197080" y="4486320"/>
            <a:ext cx="3137040" cy="208764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  <p:pic>
        <p:nvPicPr>
          <p:cNvPr id="149" name="" descr=""/>
          <p:cNvPicPr/>
          <p:nvPr/>
        </p:nvPicPr>
        <p:blipFill>
          <a:blip r:embed="rId4"/>
          <a:srcRect l="19650" t="5459" r="23549" b="2837"/>
          <a:stretch/>
        </p:blipFill>
        <p:spPr>
          <a:xfrm>
            <a:off x="5638680" y="2251080"/>
            <a:ext cx="3249720" cy="392112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30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lood Money or Capitalis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ies ($4B by 19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de with Al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ar g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lock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rit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rm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forced by U-Bo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968720" y="1600200"/>
            <a:ext cx="3397320" cy="21859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4843440" y="3938760"/>
            <a:ext cx="36464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657600" y="441360"/>
            <a:ext cx="52578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Comic Sans MS"/>
              </a:rPr>
              <a:t>The Sinking </a:t>
            </a:r>
            <a:br>
              <a:rPr sz="4000"/>
            </a:br>
            <a:r>
              <a:rPr b="1" lang="en-US" sz="4000" spc="-1" strike="noStrike">
                <a:solidFill>
                  <a:srgbClr val="996600"/>
                </a:solidFill>
                <a:latin typeface="Comic Sans MS"/>
              </a:rPr>
              <a:t>of the Lusitan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609480" y="152280"/>
            <a:ext cx="2254320" cy="63248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2925720" y="1851120"/>
            <a:ext cx="5595840" cy="377352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nautical023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ion of 19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762120" y="1523880"/>
            <a:ext cx="2666880" cy="26942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5638680" y="1523880"/>
            <a:ext cx="2590920" cy="27432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808560" y="4460760"/>
            <a:ext cx="276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oodrow Wil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mocr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e Kept Us Out of Wa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526360" y="4384800"/>
            <a:ext cx="2724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arles Evans Hug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ubli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arles Evasive Hug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ove-Haw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ion of 19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762120" y="1219320"/>
            <a:ext cx="7619760" cy="4095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335240" y="5527800"/>
            <a:ext cx="360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cialist Candidate – 59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hibition Candidate – 22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371600" y="76320"/>
            <a:ext cx="7620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Comic Sans MS"/>
              </a:rPr>
              <a:t>The Major Players: 1914-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811600" y="1523880"/>
            <a:ext cx="1303200" cy="175284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304920" y="2286000"/>
            <a:ext cx="14475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61f0a"/>
                </a:solidFill>
                <a:latin typeface="Comic Sans MS"/>
              </a:rPr>
              <a:t>Nicholas II </a:t>
            </a:r>
            <a:br>
              <a:rPr sz="1800"/>
            </a:br>
            <a:r>
              <a:rPr b="0" lang="en-US" sz="1800" spc="-1" strike="noStrike">
                <a:solidFill>
                  <a:srgbClr val="e61f0a"/>
                </a:solidFill>
                <a:latin typeface="Comic Sans MS"/>
              </a:rPr>
              <a:t>[Ru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3276720"/>
            <a:ext cx="18288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61f0a"/>
                </a:solidFill>
                <a:latin typeface="Comic Sans MS"/>
              </a:rPr>
              <a:t>George V [B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04920" y="2971800"/>
            <a:ext cx="1393560" cy="192888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2895480" y="4343400"/>
            <a:ext cx="1166760" cy="175248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438280" y="6033960"/>
            <a:ext cx="22100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61f0a"/>
                </a:solidFill>
                <a:latin typeface="Comic Sans MS"/>
              </a:rPr>
              <a:t>Pres. Poincare [F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90720" y="838080"/>
            <a:ext cx="3124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61f0a"/>
                </a:solidFill>
                <a:uFillTx/>
                <a:latin typeface="Comic Sans MS"/>
              </a:rPr>
              <a:t>Allied Powers</a:t>
            </a:r>
            <a:r>
              <a:rPr b="0" lang="en-US" sz="2400" spc="-1" strike="noStrike">
                <a:solidFill>
                  <a:srgbClr val="e61f0a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5867280" y="4572000"/>
            <a:ext cx="1301760" cy="167652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7086600" y="1371600"/>
            <a:ext cx="1447920" cy="169056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  <p:sp>
        <p:nvSpPr>
          <p:cNvPr id="70" name=""/>
          <p:cNvSpPr/>
          <p:nvPr/>
        </p:nvSpPr>
        <p:spPr>
          <a:xfrm>
            <a:off x="5562720" y="6248520"/>
            <a:ext cx="2209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Comic Sans MS"/>
              </a:rPr>
              <a:t>Franz Josef [A-H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705720" y="3062160"/>
            <a:ext cx="2209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Comic Sans MS"/>
              </a:rPr>
              <a:t>Wilhelm II [Ge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5181480" y="1752480"/>
            <a:ext cx="1119240" cy="182880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  <p:sp>
        <p:nvSpPr>
          <p:cNvPr id="73" name=""/>
          <p:cNvSpPr/>
          <p:nvPr/>
        </p:nvSpPr>
        <p:spPr>
          <a:xfrm>
            <a:off x="5181480" y="3657600"/>
            <a:ext cx="16002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61f0a"/>
                </a:solidFill>
                <a:latin typeface="Comic Sans MS"/>
              </a:rPr>
              <a:t>Victor Emmanuel II [I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257800" y="83808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cc00"/>
                </a:solidFill>
                <a:uFillTx/>
                <a:latin typeface="Comic Sans MS"/>
              </a:rPr>
              <a:t>Central Powers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238880" y="5378400"/>
            <a:ext cx="1600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Comic Sans MS"/>
              </a:rPr>
              <a:t>Enver Pasha</a:t>
            </a:r>
            <a:br>
              <a:rPr sz="1800"/>
            </a:br>
            <a:r>
              <a:rPr b="0" lang="en-US" sz="1800" spc="-1" strike="noStrike">
                <a:solidFill>
                  <a:srgbClr val="99cc00"/>
                </a:solidFill>
                <a:latin typeface="Comic Sans MS"/>
              </a:rPr>
              <a:t>[Turkey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8">
            <a:lum contrast="6000"/>
          </a:blip>
          <a:stretch/>
        </p:blipFill>
        <p:spPr>
          <a:xfrm>
            <a:off x="7467480" y="3619440"/>
            <a:ext cx="1154160" cy="179064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371600" y="212760"/>
            <a:ext cx="7620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Comic Sans MS"/>
              </a:rPr>
              <a:t>Europe in 19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438200" y="990720"/>
            <a:ext cx="748656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371600" y="212760"/>
            <a:ext cx="7620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Comic Sans MS"/>
              </a:rPr>
              <a:t>2. Militarism &amp; Arms R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527120" y="2187720"/>
          <a:ext cx="6172200" cy="993600"/>
        </p:xfrm>
        <a:graphic>
          <a:graphicData uri="http://schemas.openxmlformats.org/drawingml/2006/table">
            <a:tbl>
              <a:tblPr/>
              <a:tblGrid>
                <a:gridCol w="1028880"/>
                <a:gridCol w="1028520"/>
                <a:gridCol w="1028880"/>
                <a:gridCol w="1028520"/>
                <a:gridCol w="1028880"/>
                <a:gridCol w="1028520"/>
              </a:tblGrid>
              <a:tr h="414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3048120" y="1523880"/>
          <a:ext cx="4572000" cy="4799880"/>
        </p:xfrm>
        <a:graphic>
          <a:graphicData uri="http://schemas.openxmlformats.org/drawingml/2006/table">
            <a:tbl>
              <a:tblPr/>
              <a:tblGrid>
                <a:gridCol w="1371600"/>
                <a:gridCol w="3200400"/>
              </a:tblGrid>
              <a:tr h="14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61f0a"/>
                          </a:solidFill>
                          <a:latin typeface="Comic Sans MS"/>
                        </a:rPr>
                        <a:t>1910-1914 Increase in Defense Expenditu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r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rita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uss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erma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71600" y="212760"/>
            <a:ext cx="7620120" cy="122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996600"/>
                </a:solidFill>
                <a:latin typeface="Comic Sans MS"/>
              </a:rPr>
              <a:t>3. Economic &amp; Imperial Rivalrie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539640" y="1316160"/>
            <a:ext cx="806472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635200" y="2806560"/>
            <a:ext cx="2786040" cy="1063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2482920" y="2554200"/>
            <a:ext cx="3483000" cy="1773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2330280" y="2301840"/>
            <a:ext cx="4178520" cy="2481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2178000" y="2050920"/>
            <a:ext cx="4875120" cy="31892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2025720" y="1797120"/>
            <a:ext cx="5572080" cy="39002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1873080" y="1546200"/>
            <a:ext cx="6267600" cy="4608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8"/>
          <a:stretch/>
        </p:blipFill>
        <p:spPr>
          <a:xfrm>
            <a:off x="1523880" y="990720"/>
            <a:ext cx="7239240" cy="5622840"/>
          </a:xfrm>
          <a:prstGeom prst="rect">
            <a:avLst/>
          </a:prstGeom>
          <a:ln w="0">
            <a:noFill/>
          </a:ln>
        </p:spPr>
      </p:pic>
      <p:sp>
        <p:nvSpPr>
          <p:cNvPr id="91" name="">
            <a:hlinkClick r:id="rId9" action="ppaction://hlinksldjump"/>
          </p:cNvPr>
          <p:cNvSpPr/>
          <p:nvPr/>
        </p:nvSpPr>
        <p:spPr>
          <a:xfrm>
            <a:off x="1420920" y="-76320"/>
            <a:ext cx="1474560" cy="1967040"/>
          </a:xfrm>
          <a:custGeom>
            <a:avLst/>
            <a:gdLst>
              <a:gd name="textAreaLeft" fmla="*/ 95400 w 1474560"/>
              <a:gd name="textAreaRight" fmla="*/ 1379160 w 1474560"/>
              <a:gd name="textAreaTop" fmla="*/ 95400 h 1967040"/>
              <a:gd name="textAreaBottom" fmla="*/ 1871640 h 196704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rId10" action="ppaction://hlinksldjump"/>
          </p:cNvPr>
          <p:cNvSpPr/>
          <p:nvPr/>
        </p:nvSpPr>
        <p:spPr>
          <a:xfrm>
            <a:off x="6078600" y="561960"/>
            <a:ext cx="1984320" cy="2776680"/>
          </a:xfrm>
          <a:custGeom>
            <a:avLst/>
            <a:gdLst>
              <a:gd name="textAreaLeft" fmla="*/ 128520 w 1984320"/>
              <a:gd name="textAreaRight" fmla="*/ 1855800 w 1984320"/>
              <a:gd name="textAreaTop" fmla="*/ 128520 h 2776680"/>
              <a:gd name="textAreaBottom" fmla="*/ 2648160 h 2776680"/>
            </a:gdLst>
            <a:ahLst/>
            <a:rect l="textAreaLeft" t="textAreaTop" r="textAreaRight" b="textAreaBottom"/>
            <a:pathLst>
              <a:path w="21600" h="30224">
                <a:moveTo>
                  <a:pt x="0" y="0"/>
                </a:moveTo>
                <a:lnTo>
                  <a:pt x="21600" y="0"/>
                </a:lnTo>
                <a:lnTo>
                  <a:pt x="21600" y="30224"/>
                </a:lnTo>
                <a:lnTo>
                  <a:pt x="0" y="30224"/>
                </a:lnTo>
                <a:close/>
              </a:path>
              <a:path fill="lightenLess" w="21600" h="302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4">
                <a:moveTo>
                  <a:pt x="21600" y="0"/>
                </a:moveTo>
                <a:lnTo>
                  <a:pt x="21600" y="30224"/>
                </a:lnTo>
                <a:lnTo>
                  <a:pt x="20200" y="28824"/>
                </a:lnTo>
                <a:lnTo>
                  <a:pt x="20200" y="1400"/>
                </a:lnTo>
                <a:close/>
              </a:path>
              <a:path fill="darkenLess" w="21600" h="30224">
                <a:moveTo>
                  <a:pt x="21600" y="30224"/>
                </a:moveTo>
                <a:lnTo>
                  <a:pt x="0" y="30224"/>
                </a:lnTo>
                <a:lnTo>
                  <a:pt x="1400" y="28824"/>
                </a:lnTo>
                <a:lnTo>
                  <a:pt x="20200" y="28824"/>
                </a:lnTo>
                <a:close/>
              </a:path>
              <a:path fill="lighten" w="21600" h="30224">
                <a:moveTo>
                  <a:pt x="0" y="302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11" action="ppaction://hlinksldjump"/>
          </p:cNvPr>
          <p:cNvSpPr/>
          <p:nvPr/>
        </p:nvSpPr>
        <p:spPr>
          <a:xfrm>
            <a:off x="914400" y="2725560"/>
            <a:ext cx="1289160" cy="1832040"/>
          </a:xfrm>
          <a:custGeom>
            <a:avLst/>
            <a:gdLst>
              <a:gd name="textAreaLeft" fmla="*/ 83520 w 1289160"/>
              <a:gd name="textAreaRight" fmla="*/ 1205640 w 1289160"/>
              <a:gd name="textAreaTop" fmla="*/ 83520 h 1832040"/>
              <a:gd name="textAreaBottom" fmla="*/ 1748520 h 1832040"/>
            </a:gdLst>
            <a:ahLst/>
            <a:rect l="textAreaLeft" t="textAreaTop" r="textAreaRight" b="textAreaBottom"/>
            <a:pathLst>
              <a:path w="21600" h="30693">
                <a:moveTo>
                  <a:pt x="0" y="0"/>
                </a:moveTo>
                <a:lnTo>
                  <a:pt x="21600" y="0"/>
                </a:lnTo>
                <a:lnTo>
                  <a:pt x="21600" y="30693"/>
                </a:lnTo>
                <a:lnTo>
                  <a:pt x="0" y="30693"/>
                </a:lnTo>
                <a:close/>
              </a:path>
              <a:path fill="lightenLess" w="21600" h="306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693">
                <a:moveTo>
                  <a:pt x="21600" y="0"/>
                </a:moveTo>
                <a:lnTo>
                  <a:pt x="21600" y="30693"/>
                </a:lnTo>
                <a:lnTo>
                  <a:pt x="20200" y="29294"/>
                </a:lnTo>
                <a:lnTo>
                  <a:pt x="20200" y="1400"/>
                </a:lnTo>
                <a:close/>
              </a:path>
              <a:path fill="darkenLess" w="21600" h="30693">
                <a:moveTo>
                  <a:pt x="21600" y="30693"/>
                </a:moveTo>
                <a:lnTo>
                  <a:pt x="0" y="30693"/>
                </a:lnTo>
                <a:lnTo>
                  <a:pt x="1400" y="29294"/>
                </a:lnTo>
                <a:lnTo>
                  <a:pt x="20200" y="29294"/>
                </a:lnTo>
                <a:close/>
              </a:path>
              <a:path fill="lighten" w="21600" h="30693">
                <a:moveTo>
                  <a:pt x="0" y="306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92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599160" y="5195880"/>
            <a:ext cx="1393920" cy="1417680"/>
          </a:xfrm>
          <a:custGeom>
            <a:avLst/>
            <a:gdLst>
              <a:gd name="textAreaLeft" fmla="*/ 90360 w 1393920"/>
              <a:gd name="textAreaRight" fmla="*/ 1303560 w 1393920"/>
              <a:gd name="textAreaTop" fmla="*/ 90360 h 1417680"/>
              <a:gd name="textAreaBottom" fmla="*/ 1327320 h 1417680"/>
            </a:gdLst>
            <a:ahLst/>
            <a:rect l="textAreaLeft" t="textAreaTop" r="textAreaRight" b="textAreaBottom"/>
            <a:pathLst>
              <a:path w="21600" h="21968">
                <a:moveTo>
                  <a:pt x="0" y="0"/>
                </a:moveTo>
                <a:lnTo>
                  <a:pt x="21600" y="0"/>
                </a:lnTo>
                <a:lnTo>
                  <a:pt x="21600" y="21968"/>
                </a:lnTo>
                <a:lnTo>
                  <a:pt x="0" y="21968"/>
                </a:lnTo>
                <a:close/>
              </a:path>
              <a:path fill="lightenLess" w="21600" h="2196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8">
                <a:moveTo>
                  <a:pt x="21600" y="0"/>
                </a:moveTo>
                <a:lnTo>
                  <a:pt x="21600" y="21968"/>
                </a:lnTo>
                <a:lnTo>
                  <a:pt x="20200" y="20568"/>
                </a:lnTo>
                <a:lnTo>
                  <a:pt x="20200" y="1400"/>
                </a:lnTo>
                <a:close/>
              </a:path>
              <a:path fill="darkenLess" w="21600" h="21968">
                <a:moveTo>
                  <a:pt x="21600" y="21968"/>
                </a:moveTo>
                <a:lnTo>
                  <a:pt x="0" y="21968"/>
                </a:lnTo>
                <a:lnTo>
                  <a:pt x="1400" y="20568"/>
                </a:lnTo>
                <a:lnTo>
                  <a:pt x="20200" y="20568"/>
                </a:lnTo>
                <a:close/>
              </a:path>
              <a:path fill="lighten" w="21600" h="21968">
                <a:moveTo>
                  <a:pt x="0" y="2196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16360" y="4140360"/>
            <a:ext cx="987480" cy="2246040"/>
          </a:xfrm>
          <a:custGeom>
            <a:avLst/>
            <a:gdLst>
              <a:gd name="textAreaLeft" fmla="*/ 63720 w 987480"/>
              <a:gd name="textAreaRight" fmla="*/ 923760 w 987480"/>
              <a:gd name="textAreaTop" fmla="*/ 63720 h 2246040"/>
              <a:gd name="textAreaBottom" fmla="*/ 2182320 h 2246040"/>
            </a:gdLst>
            <a:ahLst/>
            <a:rect l="textAreaLeft" t="textAreaTop" r="textAreaRight" b="textAreaBottom"/>
            <a:pathLst>
              <a:path w="21600" h="49120">
                <a:moveTo>
                  <a:pt x="0" y="0"/>
                </a:moveTo>
                <a:lnTo>
                  <a:pt x="21600" y="0"/>
                </a:lnTo>
                <a:lnTo>
                  <a:pt x="21600" y="49120"/>
                </a:lnTo>
                <a:lnTo>
                  <a:pt x="0" y="49120"/>
                </a:lnTo>
                <a:close/>
              </a:path>
              <a:path fill="lightenLess" w="21600" h="491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9120">
                <a:moveTo>
                  <a:pt x="21600" y="0"/>
                </a:moveTo>
                <a:lnTo>
                  <a:pt x="21600" y="49120"/>
                </a:lnTo>
                <a:lnTo>
                  <a:pt x="20200" y="47720"/>
                </a:lnTo>
                <a:lnTo>
                  <a:pt x="20200" y="1400"/>
                </a:lnTo>
                <a:close/>
              </a:path>
              <a:path fill="darkenLess" w="21600" h="49120">
                <a:moveTo>
                  <a:pt x="21600" y="49120"/>
                </a:moveTo>
                <a:lnTo>
                  <a:pt x="0" y="49120"/>
                </a:lnTo>
                <a:lnTo>
                  <a:pt x="1400" y="47720"/>
                </a:lnTo>
                <a:lnTo>
                  <a:pt x="20200" y="47720"/>
                </a:lnTo>
                <a:close/>
              </a:path>
              <a:path fill="lighten" w="21600" h="49120">
                <a:moveTo>
                  <a:pt x="0" y="49120"/>
                </a:moveTo>
                <a:lnTo>
                  <a:pt x="0" y="0"/>
                </a:lnTo>
                <a:lnTo>
                  <a:pt x="1400" y="1400"/>
                </a:lnTo>
                <a:lnTo>
                  <a:pt x="1400" y="477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465800" y="3660840"/>
            <a:ext cx="1218960" cy="592200"/>
          </a:xfrm>
          <a:custGeom>
            <a:avLst/>
            <a:gdLst>
              <a:gd name="textAreaLeft" fmla="*/ 38160 w 1218960"/>
              <a:gd name="textAreaRight" fmla="*/ 1180800 w 1218960"/>
              <a:gd name="textAreaTop" fmla="*/ 38160 h 592200"/>
              <a:gd name="textAreaBottom" fmla="*/ 554040 h 592200"/>
            </a:gdLst>
            <a:ahLst/>
            <a:rect l="textAreaLeft" t="textAreaTop" r="textAreaRight" b="textAreaBottom"/>
            <a:pathLst>
              <a:path w="44447" h="21600">
                <a:moveTo>
                  <a:pt x="0" y="0"/>
                </a:moveTo>
                <a:lnTo>
                  <a:pt x="44447" y="0"/>
                </a:lnTo>
                <a:lnTo>
                  <a:pt x="44447" y="21600"/>
                </a:lnTo>
                <a:lnTo>
                  <a:pt x="0" y="21600"/>
                </a:lnTo>
                <a:close/>
              </a:path>
              <a:path fill="lightenLess" w="44447" h="21600">
                <a:moveTo>
                  <a:pt x="0" y="0"/>
                </a:moveTo>
                <a:lnTo>
                  <a:pt x="44447" y="0"/>
                </a:lnTo>
                <a:lnTo>
                  <a:pt x="43047" y="1400"/>
                </a:lnTo>
                <a:lnTo>
                  <a:pt x="1400" y="1400"/>
                </a:lnTo>
                <a:close/>
              </a:path>
              <a:path fill="darken" w="44447" h="21600">
                <a:moveTo>
                  <a:pt x="44447" y="0"/>
                </a:moveTo>
                <a:lnTo>
                  <a:pt x="44447" y="21600"/>
                </a:lnTo>
                <a:lnTo>
                  <a:pt x="43047" y="20200"/>
                </a:lnTo>
                <a:lnTo>
                  <a:pt x="43047" y="1400"/>
                </a:lnTo>
                <a:close/>
              </a:path>
              <a:path fill="darkenLess" w="44447" h="21600">
                <a:moveTo>
                  <a:pt x="44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047" y="20200"/>
                </a:lnTo>
                <a:close/>
              </a:path>
              <a:path fill="lighten" w="44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57480" y="2629080"/>
            <a:ext cx="928800" cy="709560"/>
          </a:xfrm>
          <a:custGeom>
            <a:avLst/>
            <a:gdLst>
              <a:gd name="textAreaLeft" fmla="*/ 45720 w 928800"/>
              <a:gd name="textAreaRight" fmla="*/ 883080 w 928800"/>
              <a:gd name="textAreaTop" fmla="*/ 45720 h 709560"/>
              <a:gd name="textAreaBottom" fmla="*/ 663840 h 709560"/>
            </a:gdLst>
            <a:ahLst/>
            <a:rect l="textAreaLeft" t="textAreaTop" r="textAreaRight" b="textAreaBottom"/>
            <a:pathLst>
              <a:path w="28271" h="21600">
                <a:moveTo>
                  <a:pt x="0" y="0"/>
                </a:moveTo>
                <a:lnTo>
                  <a:pt x="28271" y="0"/>
                </a:lnTo>
                <a:lnTo>
                  <a:pt x="28271" y="21600"/>
                </a:lnTo>
                <a:lnTo>
                  <a:pt x="0" y="21600"/>
                </a:lnTo>
                <a:close/>
              </a:path>
              <a:path fill="lightenLess" w="28271" h="21600">
                <a:moveTo>
                  <a:pt x="0" y="0"/>
                </a:moveTo>
                <a:lnTo>
                  <a:pt x="28271" y="0"/>
                </a:lnTo>
                <a:lnTo>
                  <a:pt x="26871" y="1400"/>
                </a:lnTo>
                <a:lnTo>
                  <a:pt x="1400" y="1400"/>
                </a:lnTo>
                <a:close/>
              </a:path>
              <a:path fill="darken" w="28271" h="21600">
                <a:moveTo>
                  <a:pt x="28271" y="0"/>
                </a:moveTo>
                <a:lnTo>
                  <a:pt x="28271" y="21600"/>
                </a:lnTo>
                <a:lnTo>
                  <a:pt x="26871" y="20200"/>
                </a:lnTo>
                <a:lnTo>
                  <a:pt x="26871" y="1400"/>
                </a:lnTo>
                <a:close/>
              </a:path>
              <a:path fill="darkenLess" w="28271" h="21600">
                <a:moveTo>
                  <a:pt x="282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71" y="20200"/>
                </a:lnTo>
                <a:close/>
              </a:path>
              <a:path fill="lighten" w="282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3080" y="3000240"/>
            <a:ext cx="406440" cy="414360"/>
          </a:xfrm>
          <a:custGeom>
            <a:avLst/>
            <a:gdLst>
              <a:gd name="textAreaLeft" fmla="*/ 26280 w 406440"/>
              <a:gd name="textAreaRight" fmla="*/ 380160 w 406440"/>
              <a:gd name="textAreaTop" fmla="*/ 26280 h 414360"/>
              <a:gd name="textAreaBottom" fmla="*/ 388080 h 414360"/>
            </a:gdLst>
            <a:ahLst/>
            <a:rect l="textAreaLeft" t="textAreaTop" r="textAreaRight" b="textAreaBottom"/>
            <a:pathLst>
              <a:path w="21600" h="22021">
                <a:moveTo>
                  <a:pt x="0" y="0"/>
                </a:moveTo>
                <a:lnTo>
                  <a:pt x="21600" y="0"/>
                </a:lnTo>
                <a:lnTo>
                  <a:pt x="21600" y="22021"/>
                </a:lnTo>
                <a:lnTo>
                  <a:pt x="0" y="22021"/>
                </a:lnTo>
                <a:close/>
              </a:path>
              <a:path fill="lightenLess" w="21600" h="2202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21">
                <a:moveTo>
                  <a:pt x="21600" y="0"/>
                </a:moveTo>
                <a:lnTo>
                  <a:pt x="21600" y="22021"/>
                </a:lnTo>
                <a:lnTo>
                  <a:pt x="20200" y="20621"/>
                </a:lnTo>
                <a:lnTo>
                  <a:pt x="20200" y="1400"/>
                </a:lnTo>
                <a:close/>
              </a:path>
              <a:path fill="darkenLess" w="21600" h="22021">
                <a:moveTo>
                  <a:pt x="21600" y="22021"/>
                </a:moveTo>
                <a:lnTo>
                  <a:pt x="0" y="22021"/>
                </a:lnTo>
                <a:lnTo>
                  <a:pt x="1400" y="20621"/>
                </a:lnTo>
                <a:lnTo>
                  <a:pt x="20200" y="20621"/>
                </a:lnTo>
                <a:close/>
              </a:path>
              <a:path fill="lighten" w="21600" h="22021">
                <a:moveTo>
                  <a:pt x="0" y="2202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2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46680" y="4603680"/>
            <a:ext cx="522360" cy="944640"/>
          </a:xfrm>
          <a:custGeom>
            <a:avLst/>
            <a:gdLst>
              <a:gd name="textAreaLeft" fmla="*/ 33840 w 522360"/>
              <a:gd name="textAreaRight" fmla="*/ 488520 w 522360"/>
              <a:gd name="textAreaTop" fmla="*/ 33840 h 944640"/>
              <a:gd name="textAreaBottom" fmla="*/ 910800 h 944640"/>
            </a:gdLst>
            <a:ahLst/>
            <a:rect l="textAreaLeft" t="textAreaTop" r="textAreaRight" b="textAreaBottom"/>
            <a:pathLst>
              <a:path w="21600" h="39050">
                <a:moveTo>
                  <a:pt x="0" y="0"/>
                </a:moveTo>
                <a:lnTo>
                  <a:pt x="21600" y="0"/>
                </a:lnTo>
                <a:lnTo>
                  <a:pt x="21600" y="39050"/>
                </a:lnTo>
                <a:lnTo>
                  <a:pt x="0" y="39050"/>
                </a:lnTo>
                <a:close/>
              </a:path>
              <a:path fill="lightenLess" w="21600" h="390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9050">
                <a:moveTo>
                  <a:pt x="21600" y="0"/>
                </a:moveTo>
                <a:lnTo>
                  <a:pt x="21600" y="39050"/>
                </a:lnTo>
                <a:lnTo>
                  <a:pt x="20200" y="37650"/>
                </a:lnTo>
                <a:lnTo>
                  <a:pt x="20200" y="1400"/>
                </a:lnTo>
                <a:close/>
              </a:path>
              <a:path fill="darkenLess" w="21600" h="39050">
                <a:moveTo>
                  <a:pt x="21600" y="39050"/>
                </a:moveTo>
                <a:lnTo>
                  <a:pt x="0" y="39050"/>
                </a:lnTo>
                <a:lnTo>
                  <a:pt x="1400" y="37650"/>
                </a:lnTo>
                <a:lnTo>
                  <a:pt x="20200" y="37650"/>
                </a:lnTo>
                <a:close/>
              </a:path>
              <a:path fill="lighten" w="21600" h="39050">
                <a:moveTo>
                  <a:pt x="0" y="39050"/>
                </a:moveTo>
                <a:lnTo>
                  <a:pt x="0" y="0"/>
                </a:lnTo>
                <a:lnTo>
                  <a:pt x="1400" y="1400"/>
                </a:lnTo>
                <a:lnTo>
                  <a:pt x="1400" y="3765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17880" y="1386000"/>
            <a:ext cx="1568520" cy="885600"/>
          </a:xfrm>
          <a:custGeom>
            <a:avLst/>
            <a:gdLst>
              <a:gd name="textAreaLeft" fmla="*/ 57240 w 1568520"/>
              <a:gd name="textAreaRight" fmla="*/ 1511280 w 1568520"/>
              <a:gd name="textAreaTop" fmla="*/ 57240 h 885600"/>
              <a:gd name="textAreaBottom" fmla="*/ 828360 h 885600"/>
            </a:gdLst>
            <a:ahLst/>
            <a:rect l="textAreaLeft" t="textAreaTop" r="textAreaRight" b="textAreaBottom"/>
            <a:pathLst>
              <a:path w="38250" h="21600">
                <a:moveTo>
                  <a:pt x="0" y="0"/>
                </a:moveTo>
                <a:lnTo>
                  <a:pt x="38250" y="0"/>
                </a:lnTo>
                <a:lnTo>
                  <a:pt x="38250" y="21600"/>
                </a:lnTo>
                <a:lnTo>
                  <a:pt x="0" y="21600"/>
                </a:lnTo>
                <a:close/>
              </a:path>
              <a:path fill="lightenLess" w="38250" h="21600">
                <a:moveTo>
                  <a:pt x="0" y="0"/>
                </a:moveTo>
                <a:lnTo>
                  <a:pt x="38250" y="0"/>
                </a:lnTo>
                <a:lnTo>
                  <a:pt x="36850" y="1400"/>
                </a:lnTo>
                <a:lnTo>
                  <a:pt x="1400" y="1400"/>
                </a:lnTo>
                <a:close/>
              </a:path>
              <a:path fill="darken" w="38250" h="21600">
                <a:moveTo>
                  <a:pt x="38250" y="0"/>
                </a:moveTo>
                <a:lnTo>
                  <a:pt x="38250" y="21600"/>
                </a:lnTo>
                <a:lnTo>
                  <a:pt x="36850" y="20200"/>
                </a:lnTo>
                <a:lnTo>
                  <a:pt x="36850" y="1400"/>
                </a:lnTo>
                <a:close/>
              </a:path>
              <a:path fill="darkenLess" w="38250" h="21600">
                <a:moveTo>
                  <a:pt x="382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50" y="20200"/>
                </a:lnTo>
                <a:close/>
              </a:path>
              <a:path fill="lighten" w="382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35120" y="2449440"/>
            <a:ext cx="987480" cy="355680"/>
          </a:xfrm>
          <a:custGeom>
            <a:avLst/>
            <a:gdLst>
              <a:gd name="textAreaLeft" fmla="*/ 23040 w 987480"/>
              <a:gd name="textAreaRight" fmla="*/ 964440 w 987480"/>
              <a:gd name="textAreaTop" fmla="*/ 23040 h 355680"/>
              <a:gd name="textAreaBottom" fmla="*/ 332640 h 355680"/>
            </a:gdLst>
            <a:ahLst/>
            <a:rect l="textAreaLeft" t="textAreaTop" r="textAreaRight" b="textAreaBottom"/>
            <a:pathLst>
              <a:path w="59930" h="21600">
                <a:moveTo>
                  <a:pt x="0" y="0"/>
                </a:moveTo>
                <a:lnTo>
                  <a:pt x="59930" y="0"/>
                </a:lnTo>
                <a:lnTo>
                  <a:pt x="59930" y="21600"/>
                </a:lnTo>
                <a:lnTo>
                  <a:pt x="0" y="21600"/>
                </a:lnTo>
                <a:close/>
              </a:path>
              <a:path fill="lightenLess" w="59930" h="21600">
                <a:moveTo>
                  <a:pt x="0" y="0"/>
                </a:moveTo>
                <a:lnTo>
                  <a:pt x="59930" y="0"/>
                </a:lnTo>
                <a:lnTo>
                  <a:pt x="58530" y="1400"/>
                </a:lnTo>
                <a:lnTo>
                  <a:pt x="1400" y="1400"/>
                </a:lnTo>
                <a:close/>
              </a:path>
              <a:path fill="darken" w="59930" h="21600">
                <a:moveTo>
                  <a:pt x="59930" y="0"/>
                </a:moveTo>
                <a:lnTo>
                  <a:pt x="59930" y="21600"/>
                </a:lnTo>
                <a:lnTo>
                  <a:pt x="58530" y="20200"/>
                </a:lnTo>
                <a:lnTo>
                  <a:pt x="58530" y="1400"/>
                </a:lnTo>
                <a:close/>
              </a:path>
              <a:path fill="darkenLess" w="59930" h="21600">
                <a:moveTo>
                  <a:pt x="59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30" y="20200"/>
                </a:lnTo>
                <a:close/>
              </a:path>
              <a:path fill="lighten" w="59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05000" y="3619440"/>
            <a:ext cx="231840" cy="709560"/>
          </a:xfrm>
          <a:custGeom>
            <a:avLst/>
            <a:gdLst>
              <a:gd name="textAreaLeft" fmla="*/ 14760 w 231840"/>
              <a:gd name="textAreaRight" fmla="*/ 217080 w 231840"/>
              <a:gd name="textAreaTop" fmla="*/ 14760 h 709560"/>
              <a:gd name="textAreaBottom" fmla="*/ 694800 h 709560"/>
            </a:gdLst>
            <a:ahLst/>
            <a:rect l="textAreaLeft" t="textAreaTop" r="textAreaRight" b="textAreaBottom"/>
            <a:pathLst>
              <a:path w="21600" h="66039">
                <a:moveTo>
                  <a:pt x="0" y="0"/>
                </a:moveTo>
                <a:lnTo>
                  <a:pt x="21600" y="0"/>
                </a:lnTo>
                <a:lnTo>
                  <a:pt x="21600" y="66039"/>
                </a:lnTo>
                <a:lnTo>
                  <a:pt x="0" y="66039"/>
                </a:lnTo>
                <a:close/>
              </a:path>
              <a:path fill="lightenLess" w="21600" h="6603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6039">
                <a:moveTo>
                  <a:pt x="21600" y="0"/>
                </a:moveTo>
                <a:lnTo>
                  <a:pt x="21600" y="66039"/>
                </a:lnTo>
                <a:lnTo>
                  <a:pt x="20200" y="64639"/>
                </a:lnTo>
                <a:lnTo>
                  <a:pt x="20200" y="1400"/>
                </a:lnTo>
                <a:close/>
              </a:path>
              <a:path fill="darkenLess" w="21600" h="66039">
                <a:moveTo>
                  <a:pt x="21600" y="66039"/>
                </a:moveTo>
                <a:lnTo>
                  <a:pt x="0" y="66039"/>
                </a:lnTo>
                <a:lnTo>
                  <a:pt x="1400" y="64639"/>
                </a:lnTo>
                <a:lnTo>
                  <a:pt x="20200" y="64639"/>
                </a:lnTo>
                <a:close/>
              </a:path>
              <a:path fill="lighten" w="21600" h="66039">
                <a:moveTo>
                  <a:pt x="0" y="66039"/>
                </a:moveTo>
                <a:lnTo>
                  <a:pt x="0" y="0"/>
                </a:lnTo>
                <a:lnTo>
                  <a:pt x="1400" y="1400"/>
                </a:lnTo>
                <a:lnTo>
                  <a:pt x="1400" y="6463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33800" y="5213520"/>
            <a:ext cx="406440" cy="944280"/>
          </a:xfrm>
          <a:custGeom>
            <a:avLst/>
            <a:gdLst>
              <a:gd name="textAreaLeft" fmla="*/ 26280 w 406440"/>
              <a:gd name="textAreaRight" fmla="*/ 380160 w 406440"/>
              <a:gd name="textAreaTop" fmla="*/ 26280 h 944280"/>
              <a:gd name="textAreaBottom" fmla="*/ 918000 h 944280"/>
            </a:gdLst>
            <a:ahLst/>
            <a:rect l="textAreaLeft" t="textAreaTop" r="textAreaRight" b="textAreaBottom"/>
            <a:pathLst>
              <a:path w="21600" h="50158">
                <a:moveTo>
                  <a:pt x="0" y="0"/>
                </a:moveTo>
                <a:lnTo>
                  <a:pt x="21600" y="0"/>
                </a:lnTo>
                <a:lnTo>
                  <a:pt x="21600" y="50158"/>
                </a:lnTo>
                <a:lnTo>
                  <a:pt x="0" y="50158"/>
                </a:lnTo>
                <a:close/>
              </a:path>
              <a:path fill="lightenLess" w="21600" h="5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50158">
                <a:moveTo>
                  <a:pt x="21600" y="0"/>
                </a:moveTo>
                <a:lnTo>
                  <a:pt x="21600" y="50158"/>
                </a:lnTo>
                <a:lnTo>
                  <a:pt x="20200" y="48758"/>
                </a:lnTo>
                <a:lnTo>
                  <a:pt x="20200" y="1400"/>
                </a:lnTo>
                <a:close/>
              </a:path>
              <a:path fill="darkenLess" w="21600" h="50158">
                <a:moveTo>
                  <a:pt x="21600" y="50158"/>
                </a:moveTo>
                <a:lnTo>
                  <a:pt x="0" y="50158"/>
                </a:lnTo>
                <a:lnTo>
                  <a:pt x="1400" y="48758"/>
                </a:lnTo>
                <a:lnTo>
                  <a:pt x="20200" y="48758"/>
                </a:lnTo>
                <a:close/>
              </a:path>
              <a:path fill="lighten" w="21600" h="50158">
                <a:moveTo>
                  <a:pt x="0" y="5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4875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94400" y="498600"/>
            <a:ext cx="522000" cy="1773000"/>
          </a:xfrm>
          <a:custGeom>
            <a:avLst/>
            <a:gdLst>
              <a:gd name="textAreaLeft" fmla="*/ 33840 w 522000"/>
              <a:gd name="textAreaRight" fmla="*/ 488160 w 522000"/>
              <a:gd name="textAreaTop" fmla="*/ 33840 h 1773000"/>
              <a:gd name="textAreaBottom" fmla="*/ 1739160 h 1773000"/>
            </a:gdLst>
            <a:ahLst/>
            <a:rect l="textAreaLeft" t="textAreaTop" r="textAreaRight" b="textAreaBottom"/>
            <a:pathLst>
              <a:path w="21600" h="73330">
                <a:moveTo>
                  <a:pt x="0" y="0"/>
                </a:moveTo>
                <a:lnTo>
                  <a:pt x="21600" y="0"/>
                </a:lnTo>
                <a:lnTo>
                  <a:pt x="21600" y="73330"/>
                </a:lnTo>
                <a:lnTo>
                  <a:pt x="0" y="73330"/>
                </a:lnTo>
                <a:close/>
              </a:path>
              <a:path fill="lightenLess" w="21600" h="7333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73330">
                <a:moveTo>
                  <a:pt x="21600" y="0"/>
                </a:moveTo>
                <a:lnTo>
                  <a:pt x="21600" y="73330"/>
                </a:lnTo>
                <a:lnTo>
                  <a:pt x="20200" y="71930"/>
                </a:lnTo>
                <a:lnTo>
                  <a:pt x="20200" y="1400"/>
                </a:lnTo>
                <a:close/>
              </a:path>
              <a:path fill="darkenLess" w="21600" h="73330">
                <a:moveTo>
                  <a:pt x="21600" y="73330"/>
                </a:moveTo>
                <a:lnTo>
                  <a:pt x="0" y="73330"/>
                </a:lnTo>
                <a:lnTo>
                  <a:pt x="1400" y="71930"/>
                </a:lnTo>
                <a:lnTo>
                  <a:pt x="20200" y="71930"/>
                </a:lnTo>
                <a:close/>
              </a:path>
              <a:path fill="lighten" w="21600" h="73330">
                <a:moveTo>
                  <a:pt x="0" y="73330"/>
                </a:moveTo>
                <a:lnTo>
                  <a:pt x="0" y="0"/>
                </a:lnTo>
                <a:lnTo>
                  <a:pt x="1400" y="1400"/>
                </a:lnTo>
                <a:lnTo>
                  <a:pt x="1400" y="7193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371600" y="152280"/>
            <a:ext cx="7620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Comic Sans MS"/>
              </a:rPr>
              <a:t>4. Aggressive National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371600" y="212760"/>
            <a:ext cx="7620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Pan-Slavism:  The Balkans, 19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43600" y="2438280"/>
            <a:ext cx="3200400" cy="164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b1b53"/>
                </a:solidFill>
                <a:latin typeface="Comic Sans MS"/>
              </a:rPr>
              <a:t>The</a:t>
            </a:r>
            <a:br>
              <a:rPr sz="3400"/>
            </a:br>
            <a:r>
              <a:rPr b="1" lang="en-US" sz="3400" spc="-1" strike="noStrike">
                <a:solidFill>
                  <a:srgbClr val="1b1b53"/>
                </a:solidFill>
                <a:latin typeface="Comic Sans MS"/>
              </a:rPr>
              <a:t>“Powder Keg”</a:t>
            </a:r>
            <a:br>
              <a:rPr sz="3400"/>
            </a:br>
            <a:r>
              <a:rPr b="1" lang="en-US" sz="3400" spc="-1" strike="noStrike">
                <a:solidFill>
                  <a:srgbClr val="1b1b53"/>
                </a:solidFill>
                <a:latin typeface="Comic Sans MS"/>
              </a:rPr>
              <a:t>of Europ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>
            <a:lum contrast="6000"/>
          </a:blip>
          <a:srcRect l="1632" t="1431" r="2208" b="1431"/>
          <a:stretch/>
        </p:blipFill>
        <p:spPr>
          <a:xfrm>
            <a:off x="1371600" y="1066680"/>
            <a:ext cx="46944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212760"/>
            <a:ext cx="762012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Comic Sans MS"/>
              </a:rPr>
              <a:t>Archduke Franz Ferdinand &amp; His Fam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514600" y="1676520"/>
            <a:ext cx="5410080" cy="482580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0T21:51:14Z</dcterms:created>
  <dc:creator> </dc:creator>
  <dc:description/>
  <dc:language>en-US</dc:language>
  <cp:lastModifiedBy>School District U46</cp:lastModifiedBy>
  <dcterms:modified xsi:type="dcterms:W3CDTF">2008-03-05T15:01:27Z</dcterms:modified>
  <cp:revision>39</cp:revision>
  <dc:subject/>
  <dc:title>Slide 1</dc:title>
</cp:coreProperties>
</file>